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775-C0DD-4D52-9DD4-587F7B50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C49-AAFA-4F89-ABA5-1ED0B2FD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8D4-3D35-43E1-96CC-5D6177FD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81E-430C-49FE-B742-6FEACB41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769-C7EB-4776-9693-9ABF7E16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711-B418-4C21-8B39-7EB87EAB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952-030E-40B0-970D-F0B347D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367-0C4E-4844-9129-4582D42F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6DF-40EF-4BC5-A4AC-BF57B8E5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EF5-7F13-4E18-BF30-C496C04B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D51-786B-4A00-9595-E1CAAB88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7B9-78D9-40A5-A6FF-4207478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CBEE-A252-43C5-92A8-C7D0464C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21337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ughts &amp; Cros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04640"/>
          <a:ext cx="8218440" cy="6264360"/>
        </p:xfrm>
        <a:graphic>
          <a:graphicData uri="http://schemas.openxmlformats.org/drawingml/2006/table">
            <a:tbl>
              <a:tblPr/>
              <a:tblGrid>
                <a:gridCol w="2530440"/>
                <a:gridCol w="2879640"/>
                <a:gridCol w="280836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971640" y="981000"/>
            <a:ext cx="1439640" cy="935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981000"/>
            <a:ext cx="1440000" cy="935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981000"/>
            <a:ext cx="1440000" cy="93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068640"/>
            <a:ext cx="1440000" cy="93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3068640"/>
            <a:ext cx="144000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3068640"/>
            <a:ext cx="1439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157720"/>
            <a:ext cx="1439640" cy="93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157720"/>
            <a:ext cx="143964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5229360"/>
            <a:ext cx="1440000" cy="93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ing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333360"/>
            <a:ext cx="143964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484280"/>
            <a:ext cx="1439640" cy="93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08280"/>
            <a:ext cx="143964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143964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157720"/>
            <a:ext cx="1439640" cy="9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404640"/>
            <a:ext cx="1440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1628640"/>
            <a:ext cx="1439640" cy="93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2924280"/>
            <a:ext cx="143964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4149720"/>
            <a:ext cx="1439640" cy="93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5445000"/>
            <a:ext cx="1439640" cy="935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6426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5661000"/>
            <a:ext cx="1224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508464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43700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789360"/>
            <a:ext cx="1584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141720"/>
            <a:ext cx="136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184464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112536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r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49360"/>
            <a:ext cx="1657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2421000"/>
            <a:ext cx="1150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8:49:42Z</dcterms:created>
  <dc:creator>Helen</dc:creator>
  <dc:description/>
  <dc:language>en-US</dc:language>
  <cp:lastModifiedBy>Helen</cp:lastModifiedBy>
  <dcterms:modified xsi:type="dcterms:W3CDTF">2009-04-29T08:50:01Z</dcterms:modified>
  <cp:revision>1</cp:revision>
  <dc:subject/>
  <dc:title>Los colores</dc:title>
</cp:coreProperties>
</file>